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34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10.gif" ContentType="image/gif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5.jpeg" ContentType="image/jpeg"/>
  <Override PartName="/ppt/media/image7.jpeg" ContentType="image/jpeg"/>
  <Override PartName="/ppt/media/image28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8.jpeg" ContentType="image/jpeg"/>
  <Override PartName="/ppt/media/image1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C6E5-2319-4CD3-9527-0B2A67D9DE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27E2-5C8D-4848-86A7-8C0813E1CA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3B02-F832-4281-87AE-468764E7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15F6-DE3C-4362-846B-65773010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2756-BFC1-4424-A6B3-5E19E3D8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E817-8977-4729-B244-B8219F71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9A9F-FDD8-49B4-B820-D21C0675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7A80-EA23-48AA-B304-915BE599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8146-522A-444F-97B7-501F1602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A975-DC2F-4884-9776-58DC9EE7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3FAD-DEB7-47D0-8D56-8007851D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7E60-62B2-40EB-B8DF-9C7F4511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FCDE-0A78-42D1-9AD1-C2B62FC1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E0F6-70F5-4F79-8DED-62C9586B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9DB7-FD61-48A5-9CCD-5A295901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F914-B192-4FED-A1A5-7C1893FC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8EE7-81DC-4021-BC57-305BB27E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FE41-9359-4789-9234-F58638A5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50A9-3400-4585-8C66-92178B97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538A9-5708-4DD7-942C-55E884A7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1FA23-E9B6-47A8-9184-D839B30E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B80DE-8539-45C4-AB64-DA61C1BD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1FBD3-3237-40AC-8120-4DEF0E71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4EEE5-FB9E-49D4-98AD-F10E747E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CB09-E049-46BC-8630-0C01AFAD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547CA-157A-4766-9581-2EBF67BE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57B87-BE0A-4365-BAE6-0EF07BA2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605BF-1995-47C6-98D2-C39A50FD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FEC6B-0748-418E-8CAA-F8D585EF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6AF7E-247A-43EC-8DF6-A6C1C929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0FF8D-4B43-4A34-8FF5-A329CC0F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21477-4304-424E-889A-B427D24C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F29F5-EEC2-4C41-9C88-1CA4B24BA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2FC6A-3D4A-466A-A1FD-13AC9C61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8935F-1C62-46E2-8796-86329069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14A7-FEEB-4BE8-8A6F-641EECAD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05E54-EB0D-4D22-8441-5367E1DE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F9365-F56F-41A0-9A21-F53F9392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E0C5E-C420-4A3A-BCEC-6CAFA6EB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E266A-94E6-448E-BD56-9D58CDF5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658C8-3277-4B9E-96BB-C3BDDCE7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4C0BC-AF81-480D-B0BD-EF3BBA0F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653A0-CB40-4AD5-99F3-6B16EB17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6441A-10B1-45FD-BB02-3E2CDBF6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66906-9A6D-4252-9FFC-9CE9B5F3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577DD-DC5F-4BD1-AFA5-ECAC2939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30FB-6B40-4581-A28C-FE7419BC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F0D1A-78F6-43D6-AE2D-CDD973F0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367F8-561D-465E-A48C-815403B5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12410-F74E-4DC2-99FF-608B3A53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C169A-5179-4411-B9F9-79C213F1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9C73D-313D-489E-9D11-1E530069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62A02-C735-46E3-BC7D-8A0A86A4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60EB1-736D-4290-B8FE-D13B7506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91A58-B4F6-446A-B37E-D253F34B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B2F8B-1CF5-46E9-B456-350C3C99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5BB5F-7CAF-43E8-975A-CAA1C997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EA2F-0708-449C-BD73-AF9FBAEB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55774-308D-4A8E-8300-28D4E7E4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99B1-CF45-487B-B800-955473E5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CC21-F52A-4A12-A29B-3408B456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76BD-3ACA-4A14-B811-22248684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98B1-CA48-4B8C-9341-0D2252BCECF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B090-BA65-42E4-91DF-DEF0835F1FEA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A4B3-2629-449C-94B7-D21B8A49D71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915F-787A-4C7D-951E-0213DECBCB01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7106-9747-451C-8F54-20E2D4EE8C6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2;&#1085;&#1080;&#1075;&#1072;%20&#1086;&#1090;&#1082;&#1088;&#1099;&#1090;&#1099;&#1077;%20&#1089;&#1090;&#1088;&#1072;&#1085;&#1080;&#1094;&#1099;&amp;fp=1&amp;pos=44&amp;uinfo=ww-1903-wh-888-fw-1678-fh-598-pd-1&amp;rpt=simage&amp;img_url=http://cs9751.vk.me/g32795239/a_33f47842.jpg" TargetMode="External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706840" y="1639800"/>
            <a:ext cx="6595920" cy="28767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212760" y="-10944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0" y="475920"/>
            <a:ext cx="82440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) носители: тексты печатные или электронные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) среда: тексты, подразумевающие и не подразумевающие участие читателя в создании информационного поля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) формат: тексты сплошные, несплошные, смешанные и составные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) тип: описание (карта, каталог, расписание), повествование (повесть, рассказ, пьеса, юмореска, биография, газетный репортаж), рассуждение (отзыв и научное рассуждение), толкование (эссе, определение термина, объяснение, резюме, протокол, комментарий к тексту), инструкция (кулинарные рецепты, диаграммы, руководство по оказанию первой помощи, или руководства для пользователей любых приборов), переговор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1"/>
          <p:cNvSpPr/>
          <p:nvPr/>
        </p:nvSpPr>
        <p:spPr>
          <a:xfrm>
            <a:off x="1785240" y="285840"/>
            <a:ext cx="578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Таксономия Блу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5572080" y="1357200"/>
            <a:ext cx="2571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Схема, которая помогает соотнести вопросы с определенной категор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Идет от простейшего к наиболее сложному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Предполагает, что в «основании пирамиды» находятся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исунок 4" descr="http://www.openclass.ru/sites/default/files/ris1(2).jpg"/>
          <p:cNvPicPr/>
          <p:nvPr/>
        </p:nvPicPr>
        <p:blipFill>
          <a:blip r:embed="rId1"/>
          <a:stretch/>
        </p:blipFill>
        <p:spPr>
          <a:xfrm>
            <a:off x="285840" y="1285920"/>
            <a:ext cx="5143320" cy="46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C:\Users\Галина\Desktop\картинки с шаттерстока\shutterstock_45670948.jpg"/>
          <p:cNvPicPr/>
          <p:nvPr/>
        </p:nvPicPr>
        <p:blipFill>
          <a:blip r:embed="rId1"/>
          <a:stretch/>
        </p:blipFill>
        <p:spPr>
          <a:xfrm>
            <a:off x="357120" y="1000080"/>
            <a:ext cx="78501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-201600" y="-165240"/>
            <a:ext cx="7450200" cy="15973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-360" y="1499760"/>
            <a:ext cx="60721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опросы, ответы на которые представлены в источнике в явном или неявном (синонимическом) виде. Чтобы ответить на такие вопросы, нужно сначала отыскать данные, а затем правильно их «прочитать», отвечая именно на поставленный вопрос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Задание может заключаться в том, чтобы найти на карте нужный объект, отыскать имя главного героя произведения и т. п. Формулировка задания может быть как предельно конкретной (например, «На какой улице находится здание университета?»), так и более трудной.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6" descr="C:\Users\Галина\Downloads\shutterstock_91130726(3).jpg"/>
          <p:cNvPicPr/>
          <p:nvPr/>
        </p:nvPicPr>
        <p:blipFill>
          <a:blip r:embed="rId2"/>
          <a:stretch/>
        </p:blipFill>
        <p:spPr>
          <a:xfrm>
            <a:off x="5916600" y="0"/>
            <a:ext cx="322740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324000" y="-66600"/>
            <a:ext cx="7461000" cy="16938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0" y="15714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Извлечение информации, которая не сообщается напрямую. Нужно понять, что означает какое-либо изображение на карте, определить, какую информацию можно найти в том или ином разделе сайта, объяснить мотивы героев рассказа или догадаться о значении слова по контексту. 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Picture 2" descr="C:\Users\Галина\Desktop\картинки с шаттерстока\shutterstock_74586232.jpg"/>
          <p:cNvPicPr/>
          <p:nvPr/>
        </p:nvPicPr>
        <p:blipFill>
          <a:blip r:embed="rId2"/>
          <a:stretch/>
        </p:blipFill>
        <p:spPr>
          <a:xfrm>
            <a:off x="6786720" y="3357720"/>
            <a:ext cx="23572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42840" y="-96840"/>
            <a:ext cx="8315280" cy="961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-360" y="714240"/>
            <a:ext cx="642924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опросы на оценку информации требуют от читателя её осмысления, обращения к собственному опыту. Нужно ответить, зачем или почему дана определённая информация, или определить, подходит ли данный источник для решения определённой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задачи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тот вид деятельности предлагае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дойти к источнику критически –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озможно, найти ошибки «автора», увидеть слабые места в его аргументах ил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ценить достоверность данных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Picture 14" descr="C:\Users\Галина\Desktop\картинки с шаттерстока\shutterstock_95462680.jpg"/>
          <p:cNvPicPr/>
          <p:nvPr/>
        </p:nvPicPr>
        <p:blipFill>
          <a:blip r:embed="rId2"/>
          <a:stretch/>
        </p:blipFill>
        <p:spPr>
          <a:xfrm>
            <a:off x="6450120" y="3429000"/>
            <a:ext cx="2693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291960" y="-6480"/>
            <a:ext cx="7493040" cy="7747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836640"/>
            <a:ext cx="72388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1 группа –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задания на 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поиск информации и понимание прочитанного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2 группа -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на 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преобразование и интерпретацию информации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3 группа -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на 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оценку и применение информации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219240" y="-96840"/>
            <a:ext cx="7492680" cy="7254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36680" y="51120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я милая, дорогулька, моя Аринушка! Я получил твои два письма, одно со смертью Монахова, другое с его воскресением. Рад я был этим письмам несказанно. В Америке я, как нигде, чувствую одиночество, и поэтому всякая строчка даже от знакомого человека - уже праздник. Письма твои получил я, будучи в Чикаго. Пел там пять спектаклей «Мефистофеля» Бойто, и должен сознаться, что публику привѐл в состояние обалдения. Там, кажется, сейчас происходят какие-то специальные заседания по трактованию моего таланта. Во как!.. Ну, пускай их. [...]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  <a:ea typeface="Calibri"/>
              </a:rPr>
              <a:t>Вопрос А. В каком городе находился автор в момент написания данного письма?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  <a:ea typeface="Calibri"/>
              </a:rPr>
              <a:t>Вопрос Б. В какой опере Ф. И. Шаляпин исполнял партию незадолго до написания данного письма?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  <a:ea typeface="Calibri"/>
              </a:rPr>
              <a:t>Вопрос В. Почему автор письма не одобряет замужество своей дочери Лидии?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  <a:ea typeface="Calibri"/>
              </a:rPr>
              <a:t>Вопрос Г. Какое утверждение наиболее точно выражает взгляды Шаляпина, проявляющиеся в данном письме?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  <a:ea typeface="Calibri"/>
              </a:rPr>
              <a:t>Вопрос Д. Какое слово с иронией употребляется автором по отношению к содержанию своего письма?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  <a:ea typeface="Calibri"/>
              </a:rPr>
              <a:t>Вопрос Е. Оцени убедительность доводов автора письма в пользу того, что Лидия должна вернуться домой к родителям.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182520" y="-7920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356760" y="5544720"/>
            <a:ext cx="7239240" cy="13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 какое место лучше купить билет, чтобы было все хорошо видно и слышно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4" name="Рисунок 3" descr="План зала · Челябинский государственный академический театр оперы и балета имени М. И. Глинки"/>
          <p:cNvPicPr/>
          <p:nvPr/>
        </p:nvPicPr>
        <p:blipFill>
          <a:blip r:embed="rId2"/>
          <a:stretch/>
        </p:blipFill>
        <p:spPr>
          <a:xfrm>
            <a:off x="500040" y="0"/>
            <a:ext cx="721512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Заголовок 1" descr=""/>
          <p:cNvPicPr/>
          <p:nvPr/>
        </p:nvPicPr>
        <p:blipFill>
          <a:blip r:embed="rId1"/>
          <a:stretch/>
        </p:blipFill>
        <p:spPr>
          <a:xfrm>
            <a:off x="182520" y="-79200"/>
            <a:ext cx="7493040" cy="72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"/>
          <p:cNvGraphicFramePr/>
          <p:nvPr/>
        </p:nvGraphicFramePr>
        <p:xfrm>
          <a:off x="357120" y="785880"/>
          <a:ext cx="8572680" cy="2855880"/>
        </p:xfrm>
        <a:graphic>
          <a:graphicData uri="http://schemas.openxmlformats.org/drawingml/2006/table">
            <a:tbl>
              <a:tblPr/>
              <a:tblGrid>
                <a:gridCol w="4519800"/>
                <a:gridCol w="1228680"/>
                <a:gridCol w="2824200"/>
              </a:tblGrid>
              <a:tr h="955440">
                <a:tc>
                  <a:txBody>
                    <a:bodyPr lIns="39960" rIns="39960" tIns="15840" bIns="158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спект компетентности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5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39960" rIns="39960" tIns="15840" bIns="158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ерных отв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39960" rIns="39960" tIns="15840" bIns="158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оц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582840">
                <a:tc>
                  <a:txBody>
                    <a:bodyPr lIns="24120" rIns="24120" tIns="24120" bIns="24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ff6600"/>
                          </a:solidFill>
                          <a:uFillTx/>
                          <a:latin typeface="Verdana"/>
                          <a:ea typeface="Times New Roman"/>
                        </a:rPr>
                        <a:t>Поиск и понимание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0</a:t>
                      </a:r>
                      <a:r>
                        <a:rPr b="0" lang="ru-RU" sz="1600" spc="-1" strike="noStrike">
                          <a:solidFill>
                            <a:srgbClr val="999999"/>
                          </a:solidFill>
                          <a:latin typeface="Verdana"/>
                          <a:ea typeface="Times New Roman"/>
                        </a:rPr>
                        <a:t> из 1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7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5120">
                <a:tc>
                  <a:txBody>
                    <a:bodyPr lIns="24120" rIns="24120" tIns="24120" bIns="24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ff6600"/>
                          </a:solidFill>
                          <a:uFillTx/>
                          <a:latin typeface="Verdana"/>
                          <a:ea typeface="Times New Roman"/>
                        </a:rPr>
                        <a:t>Представление и интерпретация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1</a:t>
                      </a:r>
                      <a:r>
                        <a:rPr b="0" lang="ru-RU" sz="1600" spc="-1" strike="noStrike">
                          <a:solidFill>
                            <a:srgbClr val="999999"/>
                          </a:solidFill>
                          <a:latin typeface="Verdana"/>
                          <a:ea typeface="Times New Roman"/>
                        </a:rPr>
                        <a:t> из 1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5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2480">
                <a:tc>
                  <a:txBody>
                    <a:bodyPr lIns="24120" rIns="24120" tIns="24120" bIns="24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ff6600"/>
                          </a:solidFill>
                          <a:uFillTx/>
                          <a:latin typeface="Verdana"/>
                          <a:ea typeface="Times New Roman"/>
                        </a:rPr>
                        <a:t>Оценка и применение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4</a:t>
                      </a:r>
                      <a:r>
                        <a:rPr b="0" lang="ru-RU" sz="1600" spc="-1" strike="noStrike">
                          <a:solidFill>
                            <a:srgbClr val="999999"/>
                          </a:solidFill>
                          <a:latin typeface="Verdana"/>
                          <a:ea typeface="Times New Roman"/>
                        </a:rPr>
                        <a:t> из 1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6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7" name="Прямоугольник 4"/>
          <p:cNvSpPr/>
          <p:nvPr/>
        </p:nvSpPr>
        <p:spPr>
          <a:xfrm>
            <a:off x="6215040" y="2000160"/>
            <a:ext cx="2071800" cy="285840"/>
          </a:xfrm>
          <a:prstGeom prst="rect">
            <a:avLst/>
          </a:prstGeom>
          <a:solidFill>
            <a:srgbClr val="00b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5"/>
          <p:cNvSpPr/>
          <p:nvPr/>
        </p:nvSpPr>
        <p:spPr>
          <a:xfrm>
            <a:off x="6215040" y="2571840"/>
            <a:ext cx="1928880" cy="357120"/>
          </a:xfrm>
          <a:prstGeom prst="rect">
            <a:avLst/>
          </a:prstGeom>
          <a:solidFill>
            <a:srgbClr val="ffff0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6"/>
          <p:cNvSpPr/>
          <p:nvPr/>
        </p:nvSpPr>
        <p:spPr>
          <a:xfrm>
            <a:off x="6215040" y="3214800"/>
            <a:ext cx="2000160" cy="285480"/>
          </a:xfrm>
          <a:prstGeom prst="rect">
            <a:avLst/>
          </a:prstGeom>
          <a:solidFill>
            <a:srgbClr val="00b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28760" y="3643200"/>
          <a:ext cx="8501040" cy="2978280"/>
        </p:xfrm>
        <a:graphic>
          <a:graphicData uri="http://schemas.openxmlformats.org/drawingml/2006/table">
            <a:tbl>
              <a:tblPr/>
              <a:tblGrid>
                <a:gridCol w="4481280"/>
                <a:gridCol w="1219320"/>
                <a:gridCol w="2800440"/>
              </a:tblGrid>
              <a:tr h="1035000">
                <a:tc>
                  <a:txBody>
                    <a:bodyPr lIns="39960" rIns="39960" tIns="15840" bIns="158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спект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39960" rIns="39960" tIns="15840" bIns="158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ерных отв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39960" rIns="39960" tIns="15840" bIns="158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оц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632160">
                <a:tc>
                  <a:txBody>
                    <a:bodyPr lIns="24120" rIns="24120" tIns="24120" bIns="24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ff6600"/>
                          </a:solidFill>
                          <a:uFillTx/>
                          <a:latin typeface="Verdana"/>
                          <a:ea typeface="Times New Roman"/>
                        </a:rPr>
                        <a:t>Поиск и понимание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6</a:t>
                      </a:r>
                      <a:r>
                        <a:rPr b="0" lang="ru-RU" sz="1600" spc="-1" strike="noStrike">
                          <a:solidFill>
                            <a:srgbClr val="999999"/>
                          </a:solidFill>
                          <a:latin typeface="Verdana"/>
                          <a:ea typeface="Times New Roman"/>
                        </a:rPr>
                        <a:t> из 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4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9320">
                <a:tc>
                  <a:txBody>
                    <a:bodyPr lIns="24120" rIns="24120" tIns="24120" bIns="24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ff6600"/>
                          </a:solidFill>
                          <a:uFillTx/>
                          <a:latin typeface="Verdana"/>
                          <a:ea typeface="Times New Roman"/>
                        </a:rPr>
                        <a:t>Представление и интерпретация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8</a:t>
                      </a:r>
                      <a:r>
                        <a:rPr b="0" lang="ru-RU" sz="1600" spc="-1" strike="noStrike">
                          <a:solidFill>
                            <a:srgbClr val="999999"/>
                          </a:solidFill>
                          <a:latin typeface="Verdana"/>
                          <a:ea typeface="Times New Roman"/>
                        </a:rPr>
                        <a:t> из 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3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800">
                <a:tc>
                  <a:txBody>
                    <a:bodyPr lIns="24120" rIns="24120" tIns="24120" bIns="24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ff6600"/>
                          </a:solidFill>
                          <a:uFillTx/>
                          <a:latin typeface="Verdana"/>
                          <a:ea typeface="Times New Roman"/>
                        </a:rPr>
                        <a:t>Оценка и применение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6</a:t>
                      </a:r>
                      <a:r>
                        <a:rPr b="0" lang="ru-RU" sz="1600" spc="-1" strike="noStrike">
                          <a:solidFill>
                            <a:srgbClr val="999999"/>
                          </a:solidFill>
                          <a:latin typeface="Verdana"/>
                          <a:ea typeface="Times New Roman"/>
                        </a:rPr>
                        <a:t> из 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2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1" name="Прямоугольник 9"/>
          <p:cNvSpPr/>
          <p:nvPr/>
        </p:nvSpPr>
        <p:spPr>
          <a:xfrm>
            <a:off x="6286680" y="6143760"/>
            <a:ext cx="1571400" cy="357120"/>
          </a:xfrm>
          <a:prstGeom prst="rect">
            <a:avLst/>
          </a:prstGeom>
          <a:solidFill>
            <a:srgbClr val="ff000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10"/>
          <p:cNvSpPr/>
          <p:nvPr/>
        </p:nvSpPr>
        <p:spPr>
          <a:xfrm>
            <a:off x="6286680" y="4857840"/>
            <a:ext cx="1857240" cy="285840"/>
          </a:xfrm>
          <a:prstGeom prst="rect">
            <a:avLst/>
          </a:prstGeom>
          <a:solidFill>
            <a:srgbClr val="ffff0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11"/>
          <p:cNvSpPr/>
          <p:nvPr/>
        </p:nvSpPr>
        <p:spPr>
          <a:xfrm>
            <a:off x="6286680" y="5500800"/>
            <a:ext cx="1714320" cy="285480"/>
          </a:xfrm>
          <a:prstGeom prst="rect">
            <a:avLst/>
          </a:prstGeom>
          <a:solidFill>
            <a:srgbClr val="ffff0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213840" y="3071520"/>
            <a:ext cx="7643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пособность человека использовать знания, приобретённые навыки для решения самого широкого спектра жизненных задач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чем больше таких задач, чем сложнее жизненные ситуации, в которых мы оказываемся, тем большее количество различных навыков, позволяющих выйти победителем из ситуации, нам требуетс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7" descr="C:\Users\Region\Desktop\картинки с шаттерстока\shutterstock_91469807.jpg"/>
          <p:cNvPicPr/>
          <p:nvPr/>
        </p:nvPicPr>
        <p:blipFill>
          <a:blip r:embed="rId2"/>
          <a:stretch/>
        </p:blipFill>
        <p:spPr>
          <a:xfrm>
            <a:off x="5500800" y="0"/>
            <a:ext cx="36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1060560" y="-36360"/>
            <a:ext cx="5767200" cy="834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971640" y="2997360"/>
            <a:ext cx="1828800" cy="100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cc"/>
                </a:solidFill>
                <a:latin typeface="Trebuchet MS"/>
              </a:rPr>
              <a:t>1. Зна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cc"/>
                </a:solidFill>
                <a:latin typeface="Trebuchet MS"/>
              </a:rPr>
              <a:t>Что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6" name="Picture 2" descr="http://evolkov.net/pix/6.quest.flower.jpg"/>
          <p:cNvPicPr/>
          <p:nvPr/>
        </p:nvPicPr>
        <p:blipFill>
          <a:blip r:embed="rId2"/>
          <a:stretch/>
        </p:blipFill>
        <p:spPr>
          <a:xfrm>
            <a:off x="900000" y="1197000"/>
            <a:ext cx="6927840" cy="5305320"/>
          </a:xfrm>
          <a:prstGeom prst="rect">
            <a:avLst/>
          </a:prstGeom>
          <a:ln w="0">
            <a:noFill/>
          </a:ln>
        </p:spPr>
      </p:pic>
      <p:sp>
        <p:nvSpPr>
          <p:cNvPr id="287" name="Содержимое 2"/>
          <p:cNvSpPr/>
          <p:nvPr/>
        </p:nvSpPr>
        <p:spPr>
          <a:xfrm>
            <a:off x="1000080" y="1285920"/>
            <a:ext cx="26370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rebuchet MS"/>
              </a:rPr>
              <a:t>2. По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rebuchet MS"/>
              </a:rPr>
              <a:t>Я понял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одержимое 2"/>
          <p:cNvSpPr/>
          <p:nvPr/>
        </p:nvSpPr>
        <p:spPr>
          <a:xfrm>
            <a:off x="4913280" y="5118120"/>
            <a:ext cx="337680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rebuchet MS"/>
              </a:rPr>
              <a:t>3. Приме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rebuchet MS"/>
              </a:rPr>
              <a:t>Где и как можно примен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одержимое 2"/>
          <p:cNvSpPr/>
          <p:nvPr/>
        </p:nvSpPr>
        <p:spPr>
          <a:xfrm>
            <a:off x="5913360" y="1503360"/>
            <a:ext cx="210024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rebuchet MS"/>
              </a:rPr>
              <a:t>4. 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rebuchet MS"/>
              </a:rPr>
              <a:t>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Содержимое 2"/>
          <p:cNvSpPr/>
          <p:nvPr/>
        </p:nvSpPr>
        <p:spPr>
          <a:xfrm>
            <a:off x="6235560" y="2647800"/>
            <a:ext cx="219564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rebuchet MS"/>
              </a:rPr>
              <a:t>5. Синте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rebuchet MS"/>
              </a:rPr>
              <a:t>Что будет, если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Содержимое 2"/>
          <p:cNvSpPr/>
          <p:nvPr/>
        </p:nvSpPr>
        <p:spPr>
          <a:xfrm>
            <a:off x="1071720" y="5429160"/>
            <a:ext cx="386856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Trebuchet MS"/>
              </a:rPr>
              <a:t>6. Оц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Trebuchet MS"/>
              </a:rPr>
              <a:t>Как вы относитесь к 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Содержимое 2"/>
          <p:cNvSpPr/>
          <p:nvPr/>
        </p:nvSpPr>
        <p:spPr>
          <a:xfrm>
            <a:off x="1000080" y="2786040"/>
            <a:ext cx="182880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cc"/>
                </a:solidFill>
                <a:latin typeface="Trebuchet MS"/>
              </a:rPr>
              <a:t>1. Зн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cc"/>
                </a:solidFill>
                <a:latin typeface="Trebuchet MS"/>
              </a:rPr>
              <a:t>Что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s03459385">
            <a:hlinkClick r:id="rId1"/>
          </p:cNvPr>
          <p:cNvPicPr/>
          <p:nvPr/>
        </p:nvPicPr>
        <p:blipFill>
          <a:blip r:embed="rId2"/>
          <a:srcRect l="0" t="0" r="0" b="4865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294" name="Заголовок 4" descr=""/>
          <p:cNvPicPr/>
          <p:nvPr/>
        </p:nvPicPr>
        <p:blipFill>
          <a:blip r:embed="rId3"/>
          <a:stretch/>
        </p:blipFill>
        <p:spPr>
          <a:xfrm>
            <a:off x="1255680" y="1547640"/>
            <a:ext cx="725508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Объект 4" descr=""/>
          <p:cNvPicPr/>
          <p:nvPr/>
        </p:nvPicPr>
        <p:blipFill>
          <a:blip r:embed="rId1"/>
          <a:stretch/>
        </p:blipFill>
        <p:spPr>
          <a:xfrm>
            <a:off x="539640" y="-96840"/>
            <a:ext cx="698508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пособность человека понимать и использовать письменные тексты, размышлять о них и заниматься чтением для того, чтобы достигать своих целей, расширять свои знания и возможности, участвовать в социальной жизн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2" descr="http://klub-drug.ru/wp-content/uploads/2011/04/79966779.gif"/>
          <p:cNvPicPr/>
          <p:nvPr/>
        </p:nvPicPr>
        <p:blipFill>
          <a:blip r:embed="rId2"/>
          <a:stretch/>
        </p:blipFill>
        <p:spPr>
          <a:xfrm>
            <a:off x="6156360" y="4365720"/>
            <a:ext cx="25192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0" y="15714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ичные (письма, беллетристика, биографии, СМС, блоги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невникового типа)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щественные (официальные документы, информация об общественных событиях, газетные новости, форумы в Интернете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ловые (инструкция о том, как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ступить к работе и т.д.)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ебные (тексты из школьных учебников, электронных образовательных ресурсов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3" descr="C:\Users\Галина\Desktop\картинки с шаттерстока\shutterstock_76451302.jpg"/>
          <p:cNvPicPr/>
          <p:nvPr/>
        </p:nvPicPr>
        <p:blipFill>
          <a:blip r:embed="rId2"/>
          <a:stretch/>
        </p:blipFill>
        <p:spPr>
          <a:xfrm>
            <a:off x="7000920" y="2071800"/>
            <a:ext cx="214308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0" y="25560"/>
            <a:ext cx="82249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2"/>
          <a:stretch/>
        </p:blipFill>
        <p:spPr>
          <a:xfrm>
            <a:off x="142920" y="1285920"/>
            <a:ext cx="8275680" cy="25718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Users\Галина\Desktop\картинки с шаттерстока\shutterstock_53132770.jpg"/>
          <p:cNvPicPr/>
          <p:nvPr/>
        </p:nvPicPr>
        <p:blipFill>
          <a:blip r:embed="rId3"/>
          <a:stretch/>
        </p:blipFill>
        <p:spPr>
          <a:xfrm>
            <a:off x="1857240" y="4005360"/>
            <a:ext cx="45370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Комплект настенных карт. История Древнего мира. 5 класс (15 карт) | Купить  книгу с доставкой | My-shop.ru"/>
          <p:cNvPicPr/>
          <p:nvPr/>
        </p:nvPicPr>
        <p:blipFill>
          <a:blip r:embed="rId2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shutterstock_66768343"/>
          <p:cNvPicPr/>
          <p:nvPr/>
        </p:nvPicPr>
        <p:blipFill>
          <a:blip r:embed="rId2"/>
          <a:stretch/>
        </p:blipFill>
        <p:spPr>
          <a:xfrm>
            <a:off x="876240" y="0"/>
            <a:ext cx="631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5:40:01Z</dcterms:created>
  <dc:creator>work</dc:creator>
  <dc:description/>
  <dc:language>en-US</dc:language>
  <cp:lastModifiedBy>HP</cp:lastModifiedBy>
  <cp:lastPrinted>2022-03-21T09:08:10Z</cp:lastPrinted>
  <dcterms:modified xsi:type="dcterms:W3CDTF">2022-03-22T03:40:23Z</dcterms:modified>
  <cp:revision>34</cp:revision>
  <dc:subject/>
  <dc:title>Практика</dc:title>
</cp:coreProperties>
</file>